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children%20wow.wav" ContentType="audio/x-wav"/>
  <Override PartName="/ppt/media/hzipup01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421-8D59-462E-8F94-EC7F7D86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15D-9806-4307-98F3-D83383E7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E2F-AF88-4F14-AA1E-2026B369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DDD-F4FE-4AA2-89BA-E95067A0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B45-85D9-4480-ABF1-76ADBFF9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994-F111-4E8F-90C7-89042778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F23-3E63-4314-9827-F3B64E73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460-7A35-444D-B9F4-823B6B42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42F-C68C-4CF4-94E2-0E62DE5D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482-A205-429B-8CF8-D9F504C1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DC0-EB46-4CA6-9A52-261D1B35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715-7A6A-48EE-939D-28774EEA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2760-9625-4824-9A48-AF66ED904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hildren%20wow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children%20wow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children%20wow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children%20wow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0" y="1362240"/>
                <a:ext cx="3992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4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741760" y="2298600"/>
                <a:ext cx="4474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204920" y="2319480"/>
                <a:ext cx="1388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162160" y="3043080"/>
                <a:ext cx="44784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299120" y="1359000"/>
                <a:ext cx="48448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826160" y="885960"/>
                <a:ext cx="1595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227560" y="2176560"/>
                <a:ext cx="37195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067440" y="3062160"/>
                <a:ext cx="49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32720" y="3070080"/>
                <a:ext cx="18399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462720" y="3832200"/>
                <a:ext cx="8524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278840" y="3832200"/>
                <a:ext cx="896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943680" y="4568760"/>
                <a:ext cx="8510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14200" y="1378080"/>
                <a:ext cx="40831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608200" y="2320920"/>
                <a:ext cx="716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204920" y="2297160"/>
                <a:ext cx="13888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139840" y="3043080"/>
                <a:ext cx="4921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106960" y="1389240"/>
                <a:ext cx="3228840" cy="94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602400" y="2297160"/>
                <a:ext cx="9414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997680" y="3279600"/>
                <a:ext cx="806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618320" y="2430360"/>
                <a:ext cx="493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9, 2 – 3 #1-2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20T13:11:42Z</dcterms:modified>
  <cp:revision>51</cp:revision>
  <dc:subject/>
  <dc:title>Slide 1</dc:title>
</cp:coreProperties>
</file>